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A17D-32DB-4882-A906-3ECA02D6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6F3D-6A2E-4E63-8F90-A5D150E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876D-A8B9-4677-9DAE-D1A817E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30FB-ABD9-407E-BC32-0749B8B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EFC8-97F6-467F-97E9-3F04A009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6381-E322-4983-AC7F-09C9D02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1BC77-B427-48E7-BD19-A8B9BD3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CEAA-0DF9-4FC6-89CC-B8C5E49E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25FD-A4F6-4B0F-9716-095EA630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1580-D14A-4E77-BDE4-9BB35C4D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D239-5434-417B-82C1-BB0D174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C6F9D-74EB-4715-84F3-C1A17904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FBB12-D60B-4F9B-A7C0-C223BA74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C66E-16E6-4967-9DDD-8A35C40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E9DFB-8F63-4364-A076-555AC759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B2EB-8940-46AA-BB5B-84655DB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07455-B8ED-4E8B-8E71-AC84FB27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EFB65-62DA-45B6-9B62-DABD90F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EF26D-8754-4B41-81F4-E42479A1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41CA-1A0F-4B86-A08E-9744E24D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A7B7-DCD0-4C30-B436-87EAE93A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67C85-E7F6-481A-B49B-12ADDEEB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72D7-9C68-4D47-B856-D5AAAC8D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5B7B5-48E7-4545-84FC-10648A9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47CE4-C912-43D0-9547-970B283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AEFB-71FC-433E-B33B-FFD565EC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8A3D5-C8D6-4819-914F-7F9C191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E5494-A4AA-43EF-9D0E-4E09F12C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C6BE7-7987-4970-B346-B3475A3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62C39-6F57-4460-94F0-1046CD08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C314-3A1D-40E4-9E55-9F423520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B3DBB-C117-42E1-97F9-C64271E8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71A0B-8F28-4B48-A722-4E7C4B62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EFAD9-9A0C-4673-AE04-C942790C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42E5D-A744-4045-A43E-352F840A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CABBE-1000-4C01-85E5-8DE3A5E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CA66-BC30-4AAD-8504-5F8A98A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BE0B8-755C-4A71-A193-C16392B1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B60D6-FD48-4EF4-8131-9716297D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D2583-7DBC-43EF-B673-1D9780F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DBFF1-80D7-4610-AEA3-BAAE6454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78CE8-4C6C-4F66-B37A-7621588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A119D-9583-4836-B166-0ACFFDA0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1AFA0-4816-4695-BC2E-558D269E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B6264-3977-46CC-B58A-27866D13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33E-A599-4206-AEEE-79931D5C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DCA-F8D5-4BC2-9551-684B0669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14D-E0BA-4E4B-A134-8FF6CED8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730-00D7-4435-BF05-545F17E8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DE5-E1A1-4EA1-8713-15AFE8E6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6D9-7258-4D13-907F-DA1E1DE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CE3-FD22-4468-A667-B37B37F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FA6-D384-4847-888E-63C6601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4D2-789D-4393-8FF0-E581D48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60D-D848-4C45-8ACD-E49F567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6A2-C026-452F-AED2-E81DCB2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C7E-AE00-41DD-BE48-BE14B634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67FF-5010-4B36-A73A-16A0CA60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C25-914A-474D-9A58-115D838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AF58-BE54-437C-96B6-F193FE7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FF91-7C68-4883-B482-99506892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259-EFB7-4C8C-8244-E445E94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576-7172-4AA3-9297-942FB2E3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0A58-5BE5-4772-AD2C-DB04B7F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8064-FBB4-48B8-8FCB-4F8F6D1B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C597-21BB-49B5-86CF-3BF69C5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3BD2-E56F-4835-8EF3-23B5852C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895A-99F0-41E7-B5A2-1C95E5B8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2A9D-B2C2-4378-80FB-AC962F94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267A-D2BB-4CD3-B908-97A4F9F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9BFF-0663-4794-A7AA-B512AED2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2313-AD11-4032-BC82-C68B46A8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EA97-AB2D-4701-9A35-2F8CE6E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B5554-247F-4286-8FAB-CCEE19C7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3EFE-A0AF-40F6-A651-2A34841F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EF7D-E3C1-41F6-9C24-659E8EA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AAD7-5681-441C-9CF4-91F7E2BE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086E-2828-4B55-BB0C-56D2F08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BA00-874F-4CB4-9388-35E214D8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B1E3-66B5-4C73-8BC9-75024A50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58D3-209E-424B-87DD-9DD7823C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FD29-6CF2-490E-91A5-087919E1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728F-91CB-4EB1-AA1D-F7B95FD0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07A3-1065-4845-93AD-7F2ECB81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2CBD-2A9E-4844-8EF7-E940A028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3FCE-CCD5-45A8-8113-E136B9C3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7472-4F40-468A-A316-3711142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B500-E5B5-445A-8090-E6BE0BD9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1928-AEBB-4702-958D-DD8C531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5552-3DCA-4939-83CD-71BED4D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F2FE-F92C-44D6-B6EF-1B6A08C3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916FC-7A7E-4A8E-A0C0-80CEC38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796D-5D25-4F69-B846-68BD5275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D675F-7D4B-41CC-B320-DBE9A8B6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90CEF-704D-4D9D-82D1-0CE349B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C0D8-574F-4FA3-8F46-0F7B0FCE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53BC-BE61-4AF2-B6B0-31D2593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2710-FA49-4E99-AB17-CEB4FB2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6CDB-A25F-48D7-A91F-F30BA8A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CEA8-F573-4ECA-9D13-51050EF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756A9-3935-4D62-8A94-04481F4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50DF-0C21-47D3-BEA2-1490AF89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99BF-4531-4007-B077-8C7E1750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6126-9727-4AD6-98E6-9A92E3E7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616A-B58D-4042-B7A0-ACD5DD93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E2421-AD89-4CAB-A43F-77A257F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A7F50-C501-4686-AE38-4CC2DFDD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D4750-B44F-4DE7-8038-0615012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1042-7E8B-4621-85FD-DE4DE7E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8F5B-3A74-4955-8FD3-4105B25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7D32-E02B-412E-86A7-840CFD9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E991-4FF3-4977-B7FA-5273399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E987-4B26-4EFC-B804-293C723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3AC9-4EB9-4334-8D0C-621660D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4537F-74F9-47AA-B2C7-31723CB3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75EE-0E0C-4A1D-966C-4F2A07CF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083F-8621-4E3F-9D4A-FFAB0FB5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007A8-D2C6-4BBA-82CF-2F0012B0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8B323-1B9D-494F-8F08-7FACDD9A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7FEA-6F3A-4DD0-974A-A53FD22E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338-8ECE-426F-8FC3-04A2862DA8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498-CBB5-4E9D-B3BF-1C2C0703C6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CC3-C955-4AD2-9152-2BB20C2F72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Box 3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37CB-52E5-48BF-B0FB-ED2E11A1B5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3B02-8CB9-49D5-AC7F-5BC8FDFAAF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908-5D19-41A7-9D50-6A7F4DA7C3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428-6F19-4BA4-A036-CDEB85190A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2946-B2F3-469E-A2A9-717FB405CF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BAE8-BFE1-46E4-857A-919414D9B96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E:\stemworks_logo_2008_final_1[1].JPG"/>
          <p:cNvPicPr/>
          <p:nvPr/>
        </p:nvPicPr>
        <p:blipFill>
          <a:blip r:embed="rId2"/>
          <a:stretch/>
        </p:blipFill>
        <p:spPr>
          <a:xfrm>
            <a:off x="528480" y="565200"/>
            <a:ext cx="2400480" cy="10285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8"/>
          <p:cNvSpPr/>
          <p:nvPr/>
        </p:nvSpPr>
        <p:spPr>
          <a:xfrm>
            <a:off x="5688000" y="631836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ww.stemworks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FE7-2FC3-48BE-97C8-333F33D60B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4240" y="215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Arial"/>
                <a:ea typeface="Arial"/>
              </a:rPr>
              <a:t>Promoting STEM in Gloucestershire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63040" y="5814720"/>
            <a:ext cx="3054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Tel:  +44 1452 427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ed.white@gloucestershire.gov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2394000" y="4249800"/>
            <a:ext cx="43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Arial"/>
                <a:ea typeface="Arial"/>
              </a:rPr>
              <a:t>Ed White: STEM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6" descr="DSCN2259.JPG"/>
          <p:cNvPicPr/>
          <p:nvPr/>
        </p:nvPicPr>
        <p:blipFill>
          <a:blip r:embed="rId1"/>
          <a:stretch/>
        </p:blipFill>
        <p:spPr>
          <a:xfrm>
            <a:off x="392040" y="3675240"/>
            <a:ext cx="2001960" cy="15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3" name="Picture 4" descr="C:\Users\Simon\Pictures\ISSP Newent\021.JPG"/>
          <p:cNvPicPr/>
          <p:nvPr/>
        </p:nvPicPr>
        <p:blipFill>
          <a:blip r:embed="rId2"/>
          <a:stretch/>
        </p:blipFill>
        <p:spPr>
          <a:xfrm>
            <a:off x="6723000" y="4653000"/>
            <a:ext cx="2065320" cy="154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30120" y="2028960"/>
            <a:ext cx="8501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erprise and Business Challenge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or Engineering focused projec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mbassadors - talks, career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ST A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or Dipl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DSCN2113.JPG"/>
          <p:cNvPicPr/>
          <p:nvPr/>
        </p:nvPicPr>
        <p:blipFill>
          <a:blip r:embed="rId1"/>
          <a:stretch/>
        </p:blipFill>
        <p:spPr>
          <a:xfrm>
            <a:off x="689040" y="3795840"/>
            <a:ext cx="21430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7" descr="DSC06394.JPG"/>
          <p:cNvPicPr/>
          <p:nvPr/>
        </p:nvPicPr>
        <p:blipFill>
          <a:blip r:embed="rId2"/>
          <a:stretch/>
        </p:blipFill>
        <p:spPr>
          <a:xfrm>
            <a:off x="6593040" y="2017800"/>
            <a:ext cx="2268360" cy="279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0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Secondary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2514600" y="2352600"/>
            <a:ext cx="474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d2db9"/>
                </a:solidFill>
                <a:latin typeface="Monotype Corsiva"/>
                <a:ea typeface="Arial"/>
              </a:rPr>
              <a:t>THANK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d2db9"/>
                </a:solidFill>
                <a:latin typeface="Monotype Corsiva"/>
                <a:ea typeface="Arial"/>
              </a:rPr>
              <a:t>Any Ques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2"/>
          <p:cNvSpPr/>
          <p:nvPr/>
        </p:nvSpPr>
        <p:spPr>
          <a:xfrm>
            <a:off x="642960" y="2000160"/>
            <a:ext cx="807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is a national priority that will be exempted from any Government spending cuts required by the rec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tain's future is so dependent on science and technology that its budget will be ring-fe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ownturn is an opportunity to “rebalance” the British economy away from financial services in favour of high technology, which will be critical to jobs and prospe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4143240" y="785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Nation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786120" y="500040"/>
            <a:ext cx="48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 selection of National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428760" y="1871640"/>
            <a:ext cx="8286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NET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 directories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directories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EM ambassador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Learning Centres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 sciencelearningcentres.org.uk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ringing together of national STEM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and regional celebration even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nationalsciencecompetition.or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4071960" y="57168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Gloucestershi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6577200" cy="4030920"/>
          </a:xfrm>
          <a:prstGeom prst="rect">
            <a:avLst/>
          </a:prstGeom>
          <a:ln w="0">
            <a:noFill/>
          </a:ln>
        </p:spPr>
      </p:pic>
      <p:sp>
        <p:nvSpPr>
          <p:cNvPr id="500" name="TextBox 5"/>
          <p:cNvSpPr/>
          <p:nvPr/>
        </p:nvSpPr>
        <p:spPr>
          <a:xfrm>
            <a:off x="2611440" y="59324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Californian FB"/>
              </a:rPr>
              <a:t>Profile showing aging 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"/>
          <p:cNvSpPr/>
          <p:nvPr/>
        </p:nvSpPr>
        <p:spPr>
          <a:xfrm>
            <a:off x="571680" y="2143080"/>
            <a:ext cx="778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create an educated and skilled workforce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meet the challenges of the future, particularly b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developing and increasing pupil's performance 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ience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chnology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ineering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able pupils in our schools to have opportunities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experience at first hand the fun, challenge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relevance of STEM subjects through active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Box 3"/>
          <p:cNvSpPr/>
          <p:nvPr/>
        </p:nvSpPr>
        <p:spPr>
          <a:xfrm>
            <a:off x="4286160" y="7858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Our</a:t>
            </a:r>
            <a:r>
              <a:rPr b="1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ims</a:t>
            </a:r>
            <a:r>
              <a:rPr b="1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2"/>
          <p:cNvSpPr/>
          <p:nvPr/>
        </p:nvSpPr>
        <p:spPr>
          <a:xfrm>
            <a:off x="5500800" y="2143080"/>
            <a:ext cx="3214440" cy="4000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8c8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285840" y="2143080"/>
            <a:ext cx="5214960" cy="4000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357120" y="2786040"/>
            <a:ext cx="535788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imon Kettle –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ined Secondary School Te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 Follis – Activities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perienced Primary Teaching Assi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d White – Volunteer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0 yrs in business and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reg Cartw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ined Secondary School Teac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3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Who are w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1714680" y="214308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The Te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5715000" y="21430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5500800" y="2786040"/>
            <a:ext cx="350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s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T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EM   Ambassa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S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l additional fund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obtained through b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3"/>
          <p:cNvGrpSpPr/>
          <p:nvPr/>
        </p:nvGrpSpPr>
        <p:grpSpPr>
          <a:xfrm>
            <a:off x="3414600" y="3027240"/>
            <a:ext cx="2666880" cy="1389600"/>
            <a:chOff x="3414600" y="3027240"/>
            <a:chExt cx="2666880" cy="1389600"/>
          </a:xfrm>
        </p:grpSpPr>
        <p:pic>
          <p:nvPicPr>
            <p:cNvPr id="511" name="Picture 4" descr="stemworkslogo"/>
            <p:cNvPicPr/>
            <p:nvPr/>
          </p:nvPicPr>
          <p:blipFill>
            <a:blip r:embed="rId1"/>
            <a:stretch/>
          </p:blipFill>
          <p:spPr>
            <a:xfrm>
              <a:off x="3414600" y="3027240"/>
              <a:ext cx="2666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"/>
            <p:cNvSpPr/>
            <p:nvPr/>
          </p:nvSpPr>
          <p:spPr>
            <a:xfrm>
              <a:off x="3490920" y="40179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  <a:ea typeface="Arial"/>
                </a:rPr>
                <a:t>in Gloucestersh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Text Box 6"/>
          <p:cNvSpPr/>
          <p:nvPr/>
        </p:nvSpPr>
        <p:spPr>
          <a:xfrm>
            <a:off x="976320" y="21891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6157800" y="2036880"/>
            <a:ext cx="259092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advice to schools on extra curricular STEM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366840" y="2036880"/>
            <a:ext cx="259056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cruit, train and manage Ambassadors from industry and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6157800" y="4094280"/>
            <a:ext cx="2590920" cy="13136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un workshops, competitions and activities in schools ages 7 -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366840" y="4094280"/>
            <a:ext cx="2590560" cy="13136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requests from schools and link with business and offer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"/>
          <p:cNvSpPr/>
          <p:nvPr/>
        </p:nvSpPr>
        <p:spPr>
          <a:xfrm rot="20011800">
            <a:off x="5204880" y="26460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2"/>
          <p:cNvSpPr/>
          <p:nvPr/>
        </p:nvSpPr>
        <p:spPr>
          <a:xfrm flipV="1" rot="1588200">
            <a:off x="5204880" y="447480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 flipH="1" rot="1588200">
            <a:off x="3070800" y="26460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/>
          <p:cNvSpPr/>
          <p:nvPr/>
        </p:nvSpPr>
        <p:spPr>
          <a:xfrm flipH="1" flipV="1" rot="20011800">
            <a:off x="3070800" y="447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3186000" y="5160960"/>
            <a:ext cx="27432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emit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To improve the uptake of STEM subjects in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What STEMworks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285840" y="1928880"/>
            <a:ext cx="53578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0+ Volunteers from business acros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lks – engineers explaining how they use science and maths in their jobs. Cover health &amp; Safety and Standard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4" descr="C:\Documents and Settings\Simon\My Documents\My Pictures\Tweskesbury School\various projeects+jonny's 033.jpg"/>
          <p:cNvPicPr/>
          <p:nvPr/>
        </p:nvPicPr>
        <p:blipFill>
          <a:blip r:embed="rId1"/>
          <a:stretch/>
        </p:blipFill>
        <p:spPr>
          <a:xfrm>
            <a:off x="6667560" y="1708200"/>
            <a:ext cx="19112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6" name="Picture 5" descr="C:\Users\Simon\Desktop\Setpoint\ISSP Bournside\DSC08544.JPG"/>
          <p:cNvPicPr/>
          <p:nvPr/>
        </p:nvPicPr>
        <p:blipFill>
          <a:blip r:embed="rId2"/>
          <a:stretch/>
        </p:blipFill>
        <p:spPr>
          <a:xfrm>
            <a:off x="496800" y="4094280"/>
            <a:ext cx="18162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7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Ambassa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28"/>
          <p:cNvSpPr/>
          <p:nvPr/>
        </p:nvSpPr>
        <p:spPr>
          <a:xfrm>
            <a:off x="2676600" y="3792600"/>
            <a:ext cx="38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e.g Flying start – regular school visits explaining principles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2676600" y="4881600"/>
            <a:ext cx="58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ts at debates, e.g. Energy – renewable / non-renewable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30"/>
          <p:cNvSpPr/>
          <p:nvPr/>
        </p:nvSpPr>
        <p:spPr>
          <a:xfrm>
            <a:off x="2676600" y="568800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reers Advi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317520" y="2158920"/>
            <a:ext cx="8664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nex  and Primary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ience or D/T practical project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contr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S2 revision,  hire of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logging with staff or pup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acher In-service tr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0" descr="C:\Users\Simon\Pictures\Blakeney Robotics\DSC08635.JPG"/>
          <p:cNvPicPr/>
          <p:nvPr/>
        </p:nvPicPr>
        <p:blipFill>
          <a:blip r:embed="rId1"/>
          <a:stretch/>
        </p:blipFill>
        <p:spPr>
          <a:xfrm>
            <a:off x="544680" y="3514680"/>
            <a:ext cx="2054160" cy="27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Picture 7" descr="DSC06413.JPG"/>
          <p:cNvPicPr/>
          <p:nvPr/>
        </p:nvPicPr>
        <p:blipFill>
          <a:blip r:embed="rId2"/>
          <a:stretch/>
        </p:blipFill>
        <p:spPr>
          <a:xfrm>
            <a:off x="5956200" y="1576440"/>
            <a:ext cx="282888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52000"/>
              </a:srgbClr>
            </a:outerShdw>
          </a:effectLst>
        </p:spPr>
      </p:pic>
      <p:sp>
        <p:nvSpPr>
          <p:cNvPr id="535" name="TextBox 6"/>
          <p:cNvSpPr/>
          <p:nvPr/>
        </p:nvSpPr>
        <p:spPr>
          <a:xfrm>
            <a:off x="4000680" y="714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  <a:ea typeface="Arial"/>
              </a:rPr>
              <a:t>Primary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35:38Z</dcterms:created>
  <dc:creator>Simon</dc:creator>
  <dc:description/>
  <dc:language>en-US</dc:language>
  <cp:lastModifiedBy> </cp:lastModifiedBy>
  <dcterms:modified xsi:type="dcterms:W3CDTF">2009-10-09T10:31:09Z</dcterms:modified>
  <cp:revision>57</cp:revision>
  <dc:subject/>
  <dc:title>PowerPoint Presentation</dc:title>
</cp:coreProperties>
</file>